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las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gif" ContentType="image/gif"/>
  <Override PartName="/ppt/media/image6.png" ContentType="image/png"/>
  <Override PartName="/ppt/media/explode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4714-9B32-472D-8BD3-CA3EC875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CB23-E386-4730-B311-2574068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69F5-CEEA-4B4C-A683-00C755A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7B57-5BA7-408B-B1CB-803B782F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DCB-BBC3-4267-81E3-38C4A830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CA8E-7323-4E4C-8324-81E98B9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8F3E-0EFC-4E76-B38D-EBCEF2E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DCE-A587-46E7-8F5D-1B0329A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A215-8CBB-4BBF-9044-A8153B1B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FC70-84A3-4AD4-81C8-E4733A80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E2C-9F9C-44CD-BA0F-84DBBD3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A8B2-FA35-423D-A55C-36E4C2AA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2F58-BD7F-4D4C-ACC5-EC35C25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3FC5-AC42-45FC-87C7-B480F11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D92B-0852-4820-816C-4289DF4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263-8C8F-4B1F-A2E6-BBD5A29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70BA-8216-4F68-8F9B-8B8640CE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C02E-70AF-4E86-9DFD-95787CC3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50F1-E52F-49F4-8A38-202E4AC7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FFD2-73DF-49C9-9A6B-459F22B1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C366-E166-4BFB-A1E9-DA8267D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1701-1542-4A5D-AF81-21017E5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4E79-ACB2-43EF-8002-E17AB56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212E-7BA9-40C9-8620-9A2F99D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36F7-6B7A-4116-B865-3A9D469E3E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944E-F784-4245-8BCA-83F4DB58AC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4"/>
          <p:cNvSpPr/>
          <p:nvPr/>
        </p:nvSpPr>
        <p:spPr>
          <a:xfrm>
            <a:off x="304920" y="0"/>
            <a:ext cx="8229600" cy="696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Tahoma"/>
              </a:rPr>
              <a:t>CERAE</a:t>
            </a:r>
            <a:endParaRPr b="0" lang="en-US" sz="13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fle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80880" y="533520"/>
            <a:ext cx="48769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mory sk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t by he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ociative memorization has to be carefully cultivated and learned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0668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80880" y="533520"/>
            <a:ext cx="44960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nking ski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 encompass both practical problem-solving and abstract though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066680" y="2209680"/>
            <a:ext cx="7086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D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2"/>
          <p:cNvGrpSpPr/>
          <p:nvPr/>
        </p:nvGrpSpPr>
        <p:grpSpPr>
          <a:xfrm>
            <a:off x="380880" y="990720"/>
            <a:ext cx="8610480" cy="4411440"/>
            <a:chOff x="380880" y="990720"/>
            <a:chExt cx="8610480" cy="4411440"/>
          </a:xfrm>
        </p:grpSpPr>
        <p:sp>
          <p:nvSpPr>
            <p:cNvPr id="178" name="AutoShape 14"/>
            <p:cNvSpPr/>
            <p:nvPr/>
          </p:nvSpPr>
          <p:spPr>
            <a:xfrm>
              <a:off x="3581280" y="2438280"/>
              <a:ext cx="1600200" cy="990720"/>
            </a:xfrm>
            <a:custGeom>
              <a:avLst/>
              <a:gdLst>
                <a:gd name="textAreaLeft" fmla="*/ 249120 w 1600200"/>
                <a:gd name="textAreaRight" fmla="*/ 1400400 w 1600200"/>
                <a:gd name="textAreaTop" fmla="*/ 247680 h 990720"/>
                <a:gd name="textAreaBottom" fmla="*/ 7430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ebf25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380880" y="990720"/>
              <a:ext cx="3048120" cy="4411440"/>
              <a:chOff x="380880" y="990720"/>
              <a:chExt cx="3048120" cy="4411440"/>
            </a:xfrm>
          </p:grpSpPr>
          <p:sp>
            <p:nvSpPr>
              <p:cNvPr id="180" name="Text Box 5"/>
              <p:cNvSpPr/>
              <p:nvPr/>
            </p:nvSpPr>
            <p:spPr>
              <a:xfrm>
                <a:off x="380880" y="990720"/>
                <a:ext cx="3048120" cy="4411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Traditional 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erspective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838080" y="2590920"/>
                <a:ext cx="2286000" cy="2209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Text Box 16"/>
              <p:cNvSpPr/>
              <p:nvPr/>
            </p:nvSpPr>
            <p:spPr>
              <a:xfrm>
                <a:off x="1066680" y="3124080"/>
                <a:ext cx="182880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Certified 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Skills</a:t>
                </a: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3" name="Group 18"/>
            <p:cNvGrpSpPr/>
            <p:nvPr/>
          </p:nvGrpSpPr>
          <p:grpSpPr>
            <a:xfrm>
              <a:off x="5181480" y="990720"/>
              <a:ext cx="3809880" cy="4411440"/>
              <a:chOff x="5181480" y="990720"/>
              <a:chExt cx="3809880" cy="4411440"/>
            </a:xfrm>
          </p:grpSpPr>
          <p:sp>
            <p:nvSpPr>
              <p:cNvPr id="184" name="Text Box 19"/>
              <p:cNvSpPr/>
              <p:nvPr/>
            </p:nvSpPr>
            <p:spPr>
              <a:xfrm>
                <a:off x="5181480" y="990720"/>
                <a:ext cx="3809880" cy="4411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UNESCO’s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erspective</a:t>
                </a: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20"/>
              <p:cNvSpPr/>
              <p:nvPr/>
            </p:nvSpPr>
            <p:spPr>
              <a:xfrm>
                <a:off x="5752800" y="2590920"/>
                <a:ext cx="2857320" cy="2209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Text Box 21"/>
              <p:cNvSpPr/>
              <p:nvPr/>
            </p:nvSpPr>
            <p:spPr>
              <a:xfrm>
                <a:off x="6038640" y="3124080"/>
                <a:ext cx="2286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Personal  Competence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80880" y="533520"/>
            <a:ext cx="80773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al Compet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x of skills and talent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bining certified skills acquired through technical and vocational training, social behavior, personal initiative and willingness to take ris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380880" y="53352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ide the Classro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 of Multiple Intelligence and learning Styl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 ingredients: creative and innovative activ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6"/>
          <p:cNvSpPr txBox="1"/>
          <p:nvPr/>
        </p:nvSpPr>
        <p:spPr>
          <a:xfrm>
            <a:off x="685800" y="1752480"/>
            <a:ext cx="80010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LIVE TOGETH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57200" y="1143000"/>
            <a:ext cx="8110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ach students about human diver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80880" y="9144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still in them an awareness of the similarities and interdependence of all peop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380880" y="9144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to live togeth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ren should be taught to understand other people's reactions by looking at things from their point of 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762120" y="38088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OUR PILLARS OF LEARN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4800600"/>
            <a:ext cx="624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b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Dr. Rizalina G. Gome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457200" y="1143000"/>
            <a:ext cx="811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irit of empathy is encouraged in schools, it has a positive effect on young persons' social behaviour for the rest of their l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57200" y="1143000"/>
            <a:ext cx="811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hool should promote social awareness, acceptance and respec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2209680"/>
            <a:ext cx="7315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TO B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3"/>
          <p:cNvSpPr/>
          <p:nvPr/>
        </p:nvSpPr>
        <p:spPr>
          <a:xfrm>
            <a:off x="457200" y="53352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d and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57200" y="13716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57200" y="22096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57200" y="304812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57200" y="40384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380880" y="49528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1371600" y="5867280"/>
            <a:ext cx="5715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s and Responsi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7280" y="60948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rit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5867280" y="16002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867280" y="25146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5867280" y="3505320"/>
            <a:ext cx="2971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5867280" y="4343400"/>
            <a:ext cx="2971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5867280" y="5029200"/>
            <a:ext cx="2971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Free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6"/>
          <p:cNvSpPr/>
          <p:nvPr/>
        </p:nvSpPr>
        <p:spPr>
          <a:xfrm>
            <a:off x="1143000" y="1295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80880" y="121932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ission powerfully re-asserted a fundamental principle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ducation should contribute to every person's complete development - mind and body, intelligence, sensitivity, aesthetic appreciation and spiritualit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04920" y="3636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people should receive in their childhood and youth an education that equips them to develop their ow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pendent, critical way of thinking and judgment so that they can make up their own minds on the best courses of action in the different circumstances in their li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685800" y="15238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assumptions stated in the repor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arning to B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im of development 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complete fulfillment of man, in all the richness of his personali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7621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ission embraces one of the complexity of his forms of expression and his various commitments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 individua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mber of a family and of a communit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er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ventor of techniques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ive drea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457200" y="1295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This human development, which begins at birth and continues all through a person's life, is a dialectic process which is based both on self-knowledge and on relationships with other people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9" descr="Copy (2) of 53"/>
          <p:cNvPicPr/>
          <p:nvPr/>
        </p:nvPicPr>
        <p:blipFill>
          <a:blip r:embed="rId1"/>
          <a:stretch/>
        </p:blipFill>
        <p:spPr>
          <a:xfrm>
            <a:off x="6469200" y="1371600"/>
            <a:ext cx="2674800" cy="31240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2"/>
          <a:stretch/>
        </p:blipFill>
        <p:spPr>
          <a:xfrm>
            <a:off x="878040" y="1487520"/>
            <a:ext cx="6723000" cy="257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8"/>
          <p:cNvGrpSpPr/>
          <p:nvPr/>
        </p:nvGrpSpPr>
        <p:grpSpPr>
          <a:xfrm>
            <a:off x="609480" y="1143000"/>
            <a:ext cx="8305920" cy="3278880"/>
            <a:chOff x="609480" y="1143000"/>
            <a:chExt cx="8305920" cy="3278880"/>
          </a:xfrm>
        </p:grpSpPr>
        <p:sp>
          <p:nvSpPr>
            <p:cNvPr id="131" name="Text Box 7"/>
            <p:cNvSpPr/>
            <p:nvPr/>
          </p:nvSpPr>
          <p:spPr>
            <a:xfrm>
              <a:off x="1447920" y="2971800"/>
              <a:ext cx="480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24"/>
            <p:cNvSpPr/>
            <p:nvPr/>
          </p:nvSpPr>
          <p:spPr>
            <a:xfrm>
              <a:off x="609480" y="1143000"/>
              <a:ext cx="82296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The UNESCO’s Four (4) Pillars of Learning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238880" y="3048120"/>
              <a:ext cx="1676520" cy="1373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live together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502920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b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Text Box 30"/>
            <p:cNvSpPr/>
            <p:nvPr/>
          </p:nvSpPr>
          <p:spPr>
            <a:xfrm>
              <a:off x="289548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do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609480" y="3048120"/>
              <a:ext cx="167652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Learning to Know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32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1295280" y="25146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Line 34"/>
            <p:cNvSpPr/>
            <p:nvPr/>
          </p:nvSpPr>
          <p:spPr>
            <a:xfrm>
              <a:off x="8064360" y="250200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5"/>
            <p:cNvSpPr/>
            <p:nvPr/>
          </p:nvSpPr>
          <p:spPr>
            <a:xfrm>
              <a:off x="5854680" y="250200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6"/>
            <p:cNvSpPr/>
            <p:nvPr/>
          </p:nvSpPr>
          <p:spPr>
            <a:xfrm>
              <a:off x="3720960" y="251460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"/>
            <p:cNvSpPr/>
            <p:nvPr/>
          </p:nvSpPr>
          <p:spPr>
            <a:xfrm>
              <a:off x="4724280" y="175248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hecker dir="horz"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228600" y="45720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ARNING TO KN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2120" y="18288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3520" y="167652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s more on the mastery of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learning tool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han with the acquisition of structured knowledge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5"/>
          <p:cNvGrpSpPr/>
          <p:nvPr/>
        </p:nvGrpSpPr>
        <p:grpSpPr>
          <a:xfrm>
            <a:off x="533520" y="457200"/>
            <a:ext cx="7848360" cy="4255200"/>
            <a:chOff x="533520" y="457200"/>
            <a:chExt cx="7848360" cy="4255200"/>
          </a:xfrm>
        </p:grpSpPr>
        <p:sp>
          <p:nvSpPr>
            <p:cNvPr id="147" name="Text Box 4"/>
            <p:cNvSpPr/>
            <p:nvPr/>
          </p:nvSpPr>
          <p:spPr>
            <a:xfrm>
              <a:off x="533520" y="1676520"/>
              <a:ext cx="3047760" cy="155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Learning Tools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5257800" y="457200"/>
              <a:ext cx="304812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Numerac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5334120" y="2057400"/>
              <a:ext cx="304776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Literacy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5300640" y="3948120"/>
              <a:ext cx="3048120" cy="76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Life skills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848120" y="8380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819680" y="437184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76920" y="25146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829040" y="809640"/>
              <a:ext cx="0" cy="358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571920" y="251460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28600" y="2286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astery of these learning tools is both a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mean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en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2895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se are means for the students to understand the world around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80880" y="685800"/>
            <a:ext cx="754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1" lang="en-US" sz="4800" spc="-1" strike="noStrike">
                <a:solidFill>
                  <a:srgbClr val="ebf25a"/>
                </a:solidFill>
                <a:latin typeface="Arial"/>
              </a:rPr>
              <a:t>end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for the students that can be derived from the pleasures on understanding, knowledge and discove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0880" y="380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lors Commission  learning to know implies learning how to lea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18"/>
          <p:cNvGrpSpPr/>
          <p:nvPr/>
        </p:nvGrpSpPr>
        <p:grpSpPr>
          <a:xfrm>
            <a:off x="380880" y="2590920"/>
            <a:ext cx="8305920" cy="2436480"/>
            <a:chOff x="380880" y="2590920"/>
            <a:chExt cx="8305920" cy="2436480"/>
          </a:xfrm>
        </p:grpSpPr>
        <p:sp>
          <p:nvSpPr>
            <p:cNvPr id="161" name="Text Box 7"/>
            <p:cNvSpPr/>
            <p:nvPr/>
          </p:nvSpPr>
          <p:spPr>
            <a:xfrm>
              <a:off x="457200" y="2590920"/>
              <a:ext cx="822960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Components of Learning to  Learn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6400800" y="4495680"/>
              <a:ext cx="205740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Thinking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233880" y="4506840"/>
              <a:ext cx="26668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emory Skill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380880" y="4495680"/>
              <a:ext cx="259092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02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ncentratio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1600200" y="3962520"/>
              <a:ext cx="632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7912080" y="394956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4572000" y="396252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1600200" y="3962520"/>
              <a:ext cx="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4572000" y="320040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609480" y="304920"/>
            <a:ext cx="48769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ent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rocess of improving concentration skills can take different forms and can be aided with various learning skill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2:50Z</dcterms:created>
  <dc:creator>jhovil</dc:creator>
  <dc:description/>
  <dc:language>en-US</dc:language>
  <cp:lastModifiedBy>msu-iit</cp:lastModifiedBy>
  <dcterms:modified xsi:type="dcterms:W3CDTF">2011-12-08T02:45:53Z</dcterms:modified>
  <cp:revision>24</cp:revision>
  <dc:subject/>
  <dc:title>THE FOUR PILLARS OF LEARNING</dc:title>
</cp:coreProperties>
</file>